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7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9A3-0952-406E-AA83-A56EDFEB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B38-5DD5-469F-AEF1-E781F19A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4D1-3370-47CA-87D5-34CC6439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142-C70F-4633-9EBF-D43B8020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C3D-D5BE-4FEE-B87B-59DCF0F0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3ED-8386-48AD-8DA3-385C56F8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C1D-0D0C-4A02-A8DF-89B00958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4FF-6458-4ECC-8A40-C3B9BD8E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49E-36B1-4E31-892F-9480434D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0CA-00F0-489F-BFEF-B86D5C7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325-69B8-4087-98A0-6771CB89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1D0-010A-436F-8039-607F5840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65AB-46A9-49BA-9E58-E8EC6C7DE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7208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形的位置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"/>
          <p:cNvSpPr/>
          <p:nvPr/>
        </p:nvSpPr>
        <p:spPr>
          <a:xfrm>
            <a:off x="179280" y="79704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电视塔为观测点，填一填，画一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9"/>
          <p:cNvSpPr/>
          <p:nvPr/>
        </p:nvSpPr>
        <p:spPr>
          <a:xfrm>
            <a:off x="3786120" y="1413000"/>
            <a:ext cx="52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市民广场在电视塔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，电信大楼在电视塔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36600" y="1428840"/>
            <a:ext cx="3443400" cy="4000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2920" y="1238400"/>
            <a:ext cx="27612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2143080" y="5524560"/>
            <a:ext cx="1357200" cy="403200"/>
          </a:xfrm>
          <a:prstGeom prst="rect">
            <a:avLst/>
          </a:prstGeom>
          <a:ln w="0">
            <a:noFill/>
          </a:ln>
        </p:spPr>
      </p:pic>
      <p:sp>
        <p:nvSpPr>
          <p:cNvPr id="205" name="矩形 10"/>
          <p:cNvSpPr/>
          <p:nvPr/>
        </p:nvSpPr>
        <p:spPr>
          <a:xfrm>
            <a:off x="6797880" y="1400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1"/>
          <p:cNvSpPr/>
          <p:nvPr/>
        </p:nvSpPr>
        <p:spPr>
          <a:xfrm>
            <a:off x="7998120" y="1428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3"/>
          <p:cNvSpPr/>
          <p:nvPr/>
        </p:nvSpPr>
        <p:spPr>
          <a:xfrm>
            <a:off x="6626160" y="174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4"/>
          <p:cNvSpPr/>
          <p:nvPr/>
        </p:nvSpPr>
        <p:spPr>
          <a:xfrm>
            <a:off x="7820280" y="1708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6610320" y="2625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5"/>
          <p:cNvSpPr/>
          <p:nvPr/>
        </p:nvSpPr>
        <p:spPr>
          <a:xfrm>
            <a:off x="7478640" y="2625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8034120" y="266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"/>
          <p:cNvSpPr/>
          <p:nvPr/>
        </p:nvSpPr>
        <p:spPr>
          <a:xfrm>
            <a:off x="4515120" y="30909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8"/>
          <p:cNvSpPr/>
          <p:nvPr/>
        </p:nvSpPr>
        <p:spPr>
          <a:xfrm>
            <a:off x="8104320" y="3033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9"/>
          <p:cNvSpPr/>
          <p:nvPr/>
        </p:nvSpPr>
        <p:spPr>
          <a:xfrm>
            <a:off x="4022640" y="3379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0"/>
          <p:cNvSpPr/>
          <p:nvPr/>
        </p:nvSpPr>
        <p:spPr>
          <a:xfrm>
            <a:off x="4646160" y="3352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1"/>
          <p:cNvSpPr/>
          <p:nvPr/>
        </p:nvSpPr>
        <p:spPr>
          <a:xfrm>
            <a:off x="6042240" y="3338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2"/>
          <p:cNvSpPr/>
          <p:nvPr/>
        </p:nvSpPr>
        <p:spPr>
          <a:xfrm>
            <a:off x="3786120" y="400068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百货大楼在电视塔南偏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， 图书馆在电视 塔北偏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5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2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在图中表示出百货大楼和图书馆的位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4"/>
          <a:stretch/>
        </p:blipFill>
        <p:spPr>
          <a:xfrm>
            <a:off x="19080" y="1692360"/>
            <a:ext cx="1700280" cy="1809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5"/>
          <a:stretch/>
        </p:blipFill>
        <p:spPr>
          <a:xfrm>
            <a:off x="1690560" y="3460680"/>
            <a:ext cx="1629000" cy="1978200"/>
          </a:xfrm>
          <a:prstGeom prst="rect">
            <a:avLst/>
          </a:prstGeom>
          <a:ln w="0">
            <a:noFill/>
          </a:ln>
        </p:spPr>
      </p:pic>
      <p:sp>
        <p:nvSpPr>
          <p:cNvPr id="220" name="矩形 23"/>
          <p:cNvSpPr/>
          <p:nvPr/>
        </p:nvSpPr>
        <p:spPr>
          <a:xfrm>
            <a:off x="3780000" y="2716200"/>
            <a:ext cx="516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市政府在电视塔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）（ 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， 少年宫在电视塔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）（  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2"/>
          <p:cNvSpPr/>
          <p:nvPr/>
        </p:nvSpPr>
        <p:spPr>
          <a:xfrm>
            <a:off x="179280" y="79704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公共汽车行驶的路线图。说一说从红梅新村到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桥的行驶方向和经过的站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857160" y="2095560"/>
            <a:ext cx="6600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2"/>
          <p:cNvSpPr/>
          <p:nvPr/>
        </p:nvSpPr>
        <p:spPr>
          <a:xfrm>
            <a:off x="179280" y="79704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公共汽车行驶的路线图。说一说从红梅新村到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桥的行驶方向和经过的站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928880" y="1809720"/>
            <a:ext cx="4214880" cy="2129040"/>
          </a:xfrm>
          <a:prstGeom prst="rect">
            <a:avLst/>
          </a:prstGeom>
          <a:ln w="0">
            <a:noFill/>
          </a:ln>
        </p:spPr>
      </p:pic>
      <p:sp>
        <p:nvSpPr>
          <p:cNvPr id="225" name="矩形 5"/>
          <p:cNvSpPr/>
          <p:nvPr/>
        </p:nvSpPr>
        <p:spPr>
          <a:xfrm>
            <a:off x="428760" y="415440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答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公共汽车从红梅新村出发，先向北行驶到东园，再向北偏西方向行驶到兴民巷，再向西行驶到青年路，再向南偏西方向行驶到时代广场，再向西行驶到电子诚和科技大厦，再向南行驶到城中公园，再向北偏西方向行驶到钟楼，再向西行驶到西门，最后向北行驶到淮定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2"/>
          <p:cNvSpPr/>
          <p:nvPr/>
        </p:nvSpPr>
        <p:spPr>
          <a:xfrm>
            <a:off x="179280" y="971640"/>
            <a:ext cx="85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家乡在哪里？有哪些旅游景点？小组合作，一部分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扮演外地客人，其他同学试着介绍家乡的位置、旅游景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游览路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们学过哪些确定位置的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536400" y="2743200"/>
            <a:ext cx="389592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3505320" cy="123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3889440" cy="133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4"/>
          <a:stretch/>
        </p:blipFill>
        <p:spPr>
          <a:xfrm>
            <a:off x="4668840" y="4419720"/>
            <a:ext cx="3560760" cy="1268280"/>
          </a:xfrm>
          <a:prstGeom prst="rect">
            <a:avLst/>
          </a:prstGeom>
          <a:ln w="0">
            <a:noFill/>
          </a:ln>
        </p:spPr>
      </p:pic>
      <p:grpSp>
        <p:nvGrpSpPr>
          <p:cNvPr id="89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90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91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197280" y="8168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组合 4"/>
            <p:cNvGrpSpPr/>
            <p:nvPr/>
          </p:nvGrpSpPr>
          <p:grpSpPr>
            <a:xfrm>
              <a:off x="7920" y="858600"/>
              <a:ext cx="428040" cy="187200"/>
              <a:chOff x="7920" y="858600"/>
              <a:chExt cx="428040" cy="187200"/>
            </a:xfrm>
          </p:grpSpPr>
          <p:sp>
            <p:nvSpPr>
              <p:cNvPr id="94" name="椭圆 11"/>
              <p:cNvSpPr/>
              <p:nvPr/>
            </p:nvSpPr>
            <p:spPr>
              <a:xfrm rot="16200000">
                <a:off x="322560" y="931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椭圆 13"/>
              <p:cNvGrpSpPr/>
              <p:nvPr/>
            </p:nvGrpSpPr>
            <p:grpSpPr>
              <a:xfrm>
                <a:off x="301680" y="969840"/>
                <a:ext cx="119520" cy="69120"/>
                <a:chOff x="301680" y="969840"/>
                <a:chExt cx="119520" cy="69120"/>
              </a:xfrm>
            </p:grpSpPr>
            <p:pic>
              <p:nvPicPr>
                <p:cNvPr id="96" name="椭圆 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01680" y="9698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339120" y="9622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椭圆 29"/>
              <p:cNvSpPr/>
              <p:nvPr/>
            </p:nvSpPr>
            <p:spPr>
              <a:xfrm rot="16200000">
                <a:off x="322560" y="8272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椭圆 30"/>
              <p:cNvGrpSpPr/>
              <p:nvPr/>
            </p:nvGrpSpPr>
            <p:grpSpPr>
              <a:xfrm>
                <a:off x="301680" y="865800"/>
                <a:ext cx="119520" cy="65520"/>
                <a:chOff x="301680" y="865800"/>
                <a:chExt cx="119520" cy="65520"/>
              </a:xfrm>
            </p:grpSpPr>
            <p:pic>
              <p:nvPicPr>
                <p:cNvPr id="100" name="椭圆 3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1680" y="8658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 rot="16200000">
                  <a:off x="339120" y="8564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圆角矩形 31"/>
              <p:cNvGrpSpPr/>
              <p:nvPr/>
            </p:nvGrpSpPr>
            <p:grpSpPr>
              <a:xfrm>
                <a:off x="7920" y="993960"/>
                <a:ext cx="391680" cy="51840"/>
                <a:chOff x="7920" y="993960"/>
                <a:chExt cx="391680" cy="51840"/>
              </a:xfrm>
            </p:grpSpPr>
            <p:pic>
              <p:nvPicPr>
                <p:cNvPr id="103" name="圆角矩形 3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993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"/>
                <p:cNvSpPr/>
                <p:nvPr/>
              </p:nvSpPr>
              <p:spPr>
                <a:xfrm rot="16200000">
                  <a:off x="201600" y="8575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圆角矩形 32"/>
              <p:cNvGrpSpPr/>
              <p:nvPr/>
            </p:nvGrpSpPr>
            <p:grpSpPr>
              <a:xfrm>
                <a:off x="7920" y="966240"/>
                <a:ext cx="391680" cy="51840"/>
                <a:chOff x="7920" y="966240"/>
                <a:chExt cx="391680" cy="51840"/>
              </a:xfrm>
            </p:grpSpPr>
            <p:pic>
              <p:nvPicPr>
                <p:cNvPr id="106" name="圆角矩形 3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20" y="9662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 rot="16200000">
                  <a:off x="201600" y="831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圆角矩形 33"/>
              <p:cNvGrpSpPr/>
              <p:nvPr/>
            </p:nvGrpSpPr>
            <p:grpSpPr>
              <a:xfrm>
                <a:off x="7920" y="886680"/>
                <a:ext cx="391680" cy="51840"/>
                <a:chOff x="7920" y="886680"/>
                <a:chExt cx="391680" cy="51840"/>
              </a:xfrm>
            </p:grpSpPr>
            <p:pic>
              <p:nvPicPr>
                <p:cNvPr id="109" name="圆角矩形 3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20" y="8866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 rot="16200000">
                  <a:off x="201600" y="750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圆角矩形 34"/>
              <p:cNvGrpSpPr/>
              <p:nvPr/>
            </p:nvGrpSpPr>
            <p:grpSpPr>
              <a:xfrm>
                <a:off x="7920" y="858960"/>
                <a:ext cx="391680" cy="51840"/>
                <a:chOff x="7920" y="858960"/>
                <a:chExt cx="391680" cy="51840"/>
              </a:xfrm>
            </p:grpSpPr>
            <p:pic>
              <p:nvPicPr>
                <p:cNvPr id="112" name="圆角矩形 3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20" y="858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 rot="16200000">
                  <a:off x="201600" y="7243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36520" y="501480"/>
            <a:ext cx="865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经典综艺体简"/>
              </a:rPr>
              <a:t>一、确定物体的相对位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326320" y="13064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）用数对表示物体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0920" y="1825560"/>
            <a:ext cx="864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用数对表示位置时，要按照先说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列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再说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行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的顺序表示，中间用逗号隔开。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竖排叫列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横排叫行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确定第几列一般要从左往右数，确定第几行一般要从前往后数。表示为：（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列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，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行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,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375640" y="420228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）用数对表示物体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059560" y="4800600"/>
            <a:ext cx="51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如果第一个数字相同，则表示在同一列；如果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二个数字相同，则表示在同一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95280" y="7477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用数对表示物体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00000" y="1539720"/>
            <a:ext cx="7481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、  物体的位置可以用方格上的点来表示，再用数对描述点的位置，如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A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）表示这个物体在第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列，第（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）行。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B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）表示这个物体在第（       ）列，（       ）行。（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6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4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）在教室的第（      ）行，第（       ）列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,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是我们班（     ）同学的位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936880" y="2556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828800" y="2971800"/>
            <a:ext cx="65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211640" y="4492800"/>
            <a:ext cx="184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888360" y="297180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50800" y="342900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60480" y="350532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8380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二、用方向和距离确定物体的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938240" y="211932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560 h 2376360"/>
              <a:gd name="textAreaBottom" fmla="*/ 231480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556000" y="1989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迷你简胖头鱼"/>
              </a:rPr>
              <a:t>找准参照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627280" y="2997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迷你简胖头鱼"/>
              </a:rPr>
              <a:t>确定正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56000" y="407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迷你简胖头鱼"/>
              </a:rPr>
              <a:t>画出方向和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50920" y="408924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上图。学校在小明家（   ）偏（   ）（   ）的方向上，距离约是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251240" y="2854440"/>
            <a:ext cx="2168640" cy="88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明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435640" y="398520"/>
            <a:ext cx="1084320" cy="88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690560" y="3267000"/>
            <a:ext cx="295272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       2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805200" y="1981080"/>
            <a:ext cx="13255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xjh2007-6-1022:43:03"/>
          <p:cNvGrpSpPr/>
          <p:nvPr/>
        </p:nvGrpSpPr>
        <p:grpSpPr>
          <a:xfrm>
            <a:off x="2783880" y="646920"/>
            <a:ext cx="1594080" cy="2217960"/>
            <a:chOff x="2783880" y="646920"/>
            <a:chExt cx="1594080" cy="2217960"/>
          </a:xfrm>
        </p:grpSpPr>
        <p:sp>
          <p:nvSpPr>
            <p:cNvPr id="138" name="Line 8"/>
            <p:cNvSpPr/>
            <p:nvPr/>
          </p:nvSpPr>
          <p:spPr>
            <a:xfrm>
              <a:off x="2827800" y="694080"/>
              <a:ext cx="1471320" cy="211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 rot="3311400">
              <a:off x="2801880" y="662040"/>
              <a:ext cx="83160" cy="878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 rot="3311400">
              <a:off x="4276440" y="2761560"/>
              <a:ext cx="83160" cy="878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V="1">
              <a:off x="3818880" y="1971360"/>
              <a:ext cx="167400" cy="11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 flipV="1">
              <a:off x="3274920" y="1230480"/>
              <a:ext cx="167400" cy="11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13"/>
          <p:cNvSpPr/>
          <p:nvPr/>
        </p:nvSpPr>
        <p:spPr>
          <a:xfrm>
            <a:off x="3086280" y="2846520"/>
            <a:ext cx="2433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356000" y="1766880"/>
            <a:ext cx="0" cy="2035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025720" y="3770280"/>
            <a:ext cx="91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 flipV="1">
            <a:off x="2936880" y="3576600"/>
            <a:ext cx="0" cy="19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2003400" y="3576600"/>
            <a:ext cx="0" cy="19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688000" y="804960"/>
            <a:ext cx="0" cy="88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19"/>
          <p:cNvSpPr/>
          <p:nvPr/>
        </p:nvSpPr>
        <p:spPr>
          <a:xfrm rot="17028000">
            <a:off x="4081320" y="2376000"/>
            <a:ext cx="237960" cy="193680"/>
          </a:xfrm>
          <a:custGeom>
            <a:avLst/>
            <a:gdLst/>
            <a:ahLst/>
            <a:rect l="l" t="t" r="r" b="b"/>
            <a:pathLst>
              <a:path fill="none" w="21600" h="20533">
                <a:moveTo>
                  <a:pt x="6705" y="0"/>
                </a:moveTo>
                <a:cubicBezTo>
                  <a:pt x="15589" y="2901"/>
                  <a:pt x="21600" y="11187"/>
                  <a:pt x="21600" y="20533"/>
                </a:cubicBezTo>
              </a:path>
              <a:path stroke="0" w="21600" h="20533">
                <a:moveTo>
                  <a:pt x="6705" y="0"/>
                </a:moveTo>
                <a:cubicBezTo>
                  <a:pt x="15589" y="2901"/>
                  <a:pt x="21600" y="11187"/>
                  <a:pt x="21600" y="20533"/>
                </a:cubicBezTo>
                <a:lnTo>
                  <a:pt x="0" y="20533"/>
                </a:lnTo>
                <a:lnTo>
                  <a:pt x="6705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2050920" y="54288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4572000" y="4038480"/>
            <a:ext cx="7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5791320" y="40640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6781680" y="408924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3390840" y="45021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28600" y="5029200"/>
            <a:ext cx="856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意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活中我们一般先说与物体所在夹角偏小的方位。而不说夹角偏大的方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校的位置要说成北偏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向，不说成西偏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546360" y="2454120"/>
            <a:ext cx="132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27"/>
          <p:cNvSpPr/>
          <p:nvPr/>
        </p:nvSpPr>
        <p:spPr>
          <a:xfrm rot="15090000">
            <a:off x="4005720" y="2668680"/>
            <a:ext cx="236520" cy="193680"/>
          </a:xfrm>
          <a:custGeom>
            <a:avLst/>
            <a:gdLst/>
            <a:ahLst/>
            <a:rect l="l" t="t" r="r" b="b"/>
            <a:pathLst>
              <a:path fill="none" w="21600" h="20533">
                <a:moveTo>
                  <a:pt x="6705" y="0"/>
                </a:moveTo>
                <a:cubicBezTo>
                  <a:pt x="15589" y="2901"/>
                  <a:pt x="21600" y="11187"/>
                  <a:pt x="21600" y="20533"/>
                </a:cubicBezTo>
              </a:path>
              <a:path stroke="0" w="21600" h="20533">
                <a:moveTo>
                  <a:pt x="6705" y="0"/>
                </a:moveTo>
                <a:cubicBezTo>
                  <a:pt x="15589" y="2901"/>
                  <a:pt x="21600" y="11187"/>
                  <a:pt x="21600" y="20533"/>
                </a:cubicBezTo>
                <a:lnTo>
                  <a:pt x="0" y="20533"/>
                </a:lnTo>
                <a:lnTo>
                  <a:pt x="6705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2"/>
          <p:cNvSpPr/>
          <p:nvPr/>
        </p:nvSpPr>
        <p:spPr>
          <a:xfrm>
            <a:off x="181080" y="19303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青山动物园平面图的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1430640" y="2546280"/>
            <a:ext cx="9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孔雀园在大门的哪一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42920" y="3133800"/>
            <a:ext cx="389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孔雀园在大门的北面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3973680" y="2481120"/>
            <a:ext cx="50101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163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164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167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169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173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176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179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182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185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79280" y="7970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青山动物园平面图的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-108000" y="14288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猴山在孔雀园的哪一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狮虎山、鹿岛和熊猫馆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0" y="24764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猴山在孔雀园的东南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狮虎山在孔雀园的东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，鹿岛在孔雀园的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面，熊猫馆在孔雀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西南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3973680" y="1347840"/>
            <a:ext cx="5010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2"/>
          <p:cNvSpPr/>
          <p:nvPr/>
        </p:nvSpPr>
        <p:spPr>
          <a:xfrm>
            <a:off x="181080" y="797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青山动物园平面图的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0" y="1523880"/>
            <a:ext cx="90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华设计了一条游览路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用如下方法表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按顺序说说小华游览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点，再设计一条不同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览路线，与同学交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3973680" y="1347840"/>
            <a:ext cx="5010120" cy="3548160"/>
          </a:xfrm>
          <a:prstGeom prst="rect">
            <a:avLst/>
          </a:prstGeom>
          <a:ln w="0">
            <a:noFill/>
          </a:ln>
        </p:spPr>
      </p:pic>
      <p:sp>
        <p:nvSpPr>
          <p:cNvPr id="194" name="矩形 8"/>
          <p:cNvSpPr/>
          <p:nvPr/>
        </p:nvSpPr>
        <p:spPr>
          <a:xfrm>
            <a:off x="4541400" y="180972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1"/>
          <p:cNvSpPr/>
          <p:nvPr/>
        </p:nvSpPr>
        <p:spPr>
          <a:xfrm>
            <a:off x="5612760" y="228600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6829200" y="1428840"/>
            <a:ext cx="141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6898680" y="266688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683960" y="314316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684400" y="352440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0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